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587E4D-865B-4300-A199-4CAA30844A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8EB8E-293B-45EB-A790-F6AC7A077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8FE467-AA62-4D07-9C14-3F2777C920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83F8C4-1FAC-4BEE-8469-9FED69B9BB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3799FC-68B1-43C3-958F-A0A86FA133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03424F-0046-460E-ADBF-B290A48199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96D8ED-ADD9-40BF-BF01-91423E33D4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DAB856-E830-471F-9C62-805D63E61E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FA140D-379B-42A2-8BBC-E91EF254A7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E03D2F-3DF4-4001-B078-E825EAE6CD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E9E2D-CCDE-459C-B3EC-1698F73346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08A2D-6D79-41B5-AE04-E544EB01E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395BC1-42BE-45A5-9F1F-99B6CF1684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424D29-6915-4783-8059-04BA843E94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9C81BC-7F58-416F-8447-A4796EC74C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0B1FA1-3330-4B76-A63F-32374FB965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46AFA2-1EEE-491C-840E-AD9BA0F8E1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1A948-7E0A-462B-BEAC-3E02ABC1F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BEE58-BEE0-4870-B599-7BEEB672B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0012F-CB15-4232-A884-05B5E8F9F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8AFA4-5AF1-440A-81E0-70BABE5CF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68140-DDAD-437A-9182-7CE70D83C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A1BA9-EFC8-4704-83E1-541DB48E4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DC792-912A-45D0-9A37-AED2B21997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EF5C3-029F-410F-B5E7-7FFF37CED84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CC128-AE9C-4BDD-BA00-89B2E78510A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s://www.cia.gov/library/publications/the-world-factbook/geos/ve.html" TargetMode="External"/><Relationship Id="rId2" Type="http://schemas.openxmlformats.org/officeDocument/2006/relationships/hyperlink" Target="http://www.answers.com/topic/hugo-ch-vez" TargetMode="External"/><Relationship Id="rId3" Type="http://schemas.openxmlformats.org/officeDocument/2006/relationships/hyperlink" Target="http://archive.newsmax.com/archives/articles/2001/7/3/141428.shtml"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feec94"/>
                </a:solidFill>
                <a:uFillTx/>
                <a:latin typeface="Times New Roman"/>
              </a:rPr>
              <a:t>Venezuelan Leftist Government</a:t>
            </a:r>
            <a:r>
              <a:rPr b="1" lang="en-US" sz="5400" spc="-1" strike="noStrike">
                <a:solidFill>
                  <a:srgbClr val="feec94"/>
                </a:solidFill>
                <a:latin typeface="Times New Roman"/>
              </a:rPr>
              <a:t> </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 Austen Horn, Ben Tobias, and Rob Haworth</a:t>
            </a:r>
            <a:endParaRPr b="0" lang="en-US" sz="3200" spc="-1" strike="noStrike">
              <a:solidFill>
                <a:srgbClr val="ffffff"/>
              </a:solidFill>
              <a:latin typeface="Times New Roman"/>
            </a:endParaRPr>
          </a:p>
        </p:txBody>
      </p:sp>
      <p:pic>
        <p:nvPicPr>
          <p:cNvPr id="122" name="" descr=""/>
          <p:cNvPicPr/>
          <p:nvPr/>
        </p:nvPicPr>
        <p:blipFill>
          <a:blip r:embed="rId1"/>
          <a:stretch/>
        </p:blipFill>
        <p:spPr>
          <a:xfrm>
            <a:off x="0" y="0"/>
            <a:ext cx="3048120" cy="2031840"/>
          </a:xfrm>
          <a:prstGeom prst="rect">
            <a:avLst/>
          </a:prstGeom>
          <a:ln w="0">
            <a:noFill/>
          </a:ln>
        </p:spPr>
      </p:pic>
      <p:pic>
        <p:nvPicPr>
          <p:cNvPr id="123" name="" descr=""/>
          <p:cNvPicPr/>
          <p:nvPr/>
        </p:nvPicPr>
        <p:blipFill>
          <a:blip r:embed="rId2"/>
          <a:stretch/>
        </p:blipFill>
        <p:spPr>
          <a:xfrm>
            <a:off x="5943600" y="4454640"/>
            <a:ext cx="3200400" cy="2403360"/>
          </a:xfrm>
          <a:prstGeom prst="rect">
            <a:avLst/>
          </a:prstGeom>
          <a:ln w="0">
            <a:noFill/>
          </a:ln>
        </p:spPr>
      </p:pic>
      <p:pic>
        <p:nvPicPr>
          <p:cNvPr id="124" name="" descr="Hugo Chavez the Leftist Venezuelan Dictator "/>
          <p:cNvPicPr/>
          <p:nvPr/>
        </p:nvPicPr>
        <p:blipFill>
          <a:blip r:embed="rId3"/>
          <a:stretch/>
        </p:blipFill>
        <p:spPr>
          <a:xfrm>
            <a:off x="0" y="3733920"/>
            <a:ext cx="2362320" cy="3124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solidFill>
            <a:srgbClr val="c2803e"/>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Venezuelan Government</a:t>
            </a:r>
            <a:endParaRPr b="1" lang="en-US" sz="4400" spc="-1" strike="noStrike">
              <a:solidFill>
                <a:srgbClr val="feec94"/>
              </a:solidFill>
              <a:latin typeface="Times New Roman"/>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ype: Federal Republic</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sident: Hugo Chavez, Vice President: Ramon Carrizalez, Cabinet: Council of Ministers appointed by the presiden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are 9 political parties and Hugo Chavez is a part of the United Socialist Party of Venezuela or PSUV.</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solidFill>
            <a:srgbClr val="c2803e"/>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Venezuelan Economy</a:t>
            </a:r>
            <a:endParaRPr b="1" lang="en-US" sz="4400" spc="-1" strike="noStrike">
              <a:solidFill>
                <a:srgbClr val="feec94"/>
              </a:solidFill>
              <a:latin typeface="Times New Roman"/>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ugo Chavez controls all of Venezuela’s oil which accounts for more than 90% of their export earning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ugo Chavez also controls all cement and steel companies along with petroleum, communications, and electricity sector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unemployment rate is 8.5%.</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solidFill>
            <a:srgbClr val="c2803e"/>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ugo Chavez</a:t>
            </a:r>
            <a:endParaRPr b="1" lang="en-US" sz="4400" spc="-1" strike="noStrike">
              <a:solidFill>
                <a:srgbClr val="feec94"/>
              </a:solidFill>
              <a:latin typeface="Times New Roman"/>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orn: July 28, 1954 in Sabaneta, Venezuela.</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ed president in 1998.</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1992 Hugo Chavez tried to overthrow the president Carlos Perez and was put in prison for two years and was pardoned by president Rafael Caldera and when out of prison he gained popularity and was elected president as a leftist reform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solidFill>
            <a:srgbClr val="c2803e"/>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roblems in Venezuela</a:t>
            </a:r>
            <a:endParaRPr b="1" lang="en-US" sz="4400" spc="-1" strike="noStrike">
              <a:solidFill>
                <a:srgbClr val="feec94"/>
              </a:solidFill>
              <a:latin typeface="Times New Roman"/>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nce Hugo Chavez has taken office crime rate has jumped an astounding 80%.</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tween 60 and 100 people are killed on an average Caracas weekend.</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so the unemployment rate has risen to 13% since Hugo Chavez has taken offic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employment in Venezuela might also mean more Venezuelan immigrants in the U.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solidFill>
            <a:srgbClr val="c2803e"/>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ution to Venezuelan Problems</a:t>
            </a:r>
            <a:endParaRPr b="1" lang="en-US" sz="4400" spc="-1" strike="noStrike">
              <a:solidFill>
                <a:srgbClr val="feec94"/>
              </a:solidFill>
              <a:latin typeface="Times New Roman"/>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 must the watch threat of the increasing  Venezuelan military.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 have to some how limit the growing power that Hugo Chavez has over Venezuel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 also have to help with the poverty in Venezuela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solidFill>
            <a:srgbClr val="c2803e"/>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itations</a:t>
            </a:r>
            <a:endParaRPr b="1" lang="en-US" sz="4400" spc="-1" strike="noStrike">
              <a:solidFill>
                <a:srgbClr val="feec94"/>
              </a:solidFill>
              <a:latin typeface="Times New Roman"/>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1"/>
              </a:rPr>
              <a:t>https://www.cia.gov/library/publications/the-world-factbook/geos/ve.html</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2"/>
              </a:rPr>
              <a:t>http://www.answers.com/topic/hugo-ch-vez</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3"/>
              </a:rPr>
              <a:t>http://archive.newsmax.com/archives/articles/2001/7/3/141428.shtml</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1T15:32:30Z</dcterms:created>
  <dc:creator>ws12087</dc:creator>
  <dc:description/>
  <dc:language>en-US</dc:language>
  <cp:lastModifiedBy>Brian Horn</cp:lastModifiedBy>
  <dcterms:modified xsi:type="dcterms:W3CDTF">2009-05-15T00:21:59Z</dcterms:modified>
  <cp:revision>6</cp:revision>
  <dc:subject/>
  <dc:title>Venezuelan Leftist Government </dc:title>
</cp:coreProperties>
</file>